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B0C-79D1-4D4B-894C-56CB7584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1BC-1F9D-4B8F-B572-244CB55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10C-3EDF-4918-87A6-6B2B44A3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E1-E17E-49C4-BC57-12295EC4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B2C-E17A-4A7D-9069-54891B2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AD5-CB04-4B07-9C90-C7B530D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B6D-CC68-4241-B66F-E27FCB06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F05-D43B-4550-A556-0E28E41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D93-DDBC-4540-894F-143CB952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A3A-787F-4F0B-B519-7300E6E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3A3-2846-4D8E-989D-56051F9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92F-246E-4F8D-B306-8FBE7B2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9A2-9D4C-41DF-8562-4D2EBD3C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 and Dwar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an L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O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Na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 Ruu Corp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228600" y="228600"/>
          <a:ext cx="9524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8600"/>
                    <a:ext cx="9524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-152280"/>
          <a:ext cx="8686800" cy="727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152280"/>
                    <a:ext cx="8686800" cy="72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500040"/>
          <a:ext cx="929628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92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lanet 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et - A spherical object in space that has its own atmosphere and orbits a much bigge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rther a planet is away from what it orbits, the longer the orbital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y Planet that has less than 10 moons, is considered a small planet, or a dwarf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any planet with a diameter that is bigger than 2.0 is considered a big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arther away a planet is from the Sun, the longer the Orbital Perio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44:30Z</dcterms:created>
  <dc:creator>mchamorro</dc:creator>
  <dc:description/>
  <dc:language>en-US</dc:language>
  <cp:lastModifiedBy>Amphitheater Public Schools</cp:lastModifiedBy>
  <dcterms:modified xsi:type="dcterms:W3CDTF">2011-02-15T15:59:37Z</dcterms:modified>
  <cp:revision>3</cp:revision>
  <dc:subject/>
  <dc:title>Planets and Dwarf Planets</dc:title>
</cp:coreProperties>
</file>